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FD6-3832-4561-9A88-A95DC977D14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i liity (105 kp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804-8786-42AF-ADD2-0B8834B9B2C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Huom. 105 toimenpidettä ei pystytty selkeästi kytkemään mihinkään tavoittee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Rakennusten energiankulutus ja liik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84E-910E-45AB-AB93-B9B21378052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lintarvikkeisiin, ravintoloihin tai syömiseen yleensä ei juuri löytynyt toimenpiteitä, vaikka tämä on yksittäisen kansalaisen osalta suurimpia hiilijalanjäljen aiheuttaj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1841-A562-425D-9BF5-22C4B5ED786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BF17-9692-44D3-9B72-5EEB365DCEE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Mihin päästölähteeseen toimenpiteet liittyvä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3592-1D49-4FC4-B2F0-3598F1D8945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päällekkäisyyt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06A-0C89-411C-B9FD-DD311D36995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hmisten arvojen ja tieteellisen tiedon keräämiseen, koostamiseen ja viestintää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3681-3D2C-43F6-87B4-79193096F27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i liity-kohtia oli yli 100, näissä erityisesti sopeutumisen toimenpitei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FCD-C10E-48AA-9E43-34732A0A26F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0B2F-E61B-4303-B4FA-AC8656DBB25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i virastojen omia ympäristöohjel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9A3E-C028-4ABB-829C-FF306A141D4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B77-512A-486B-9333-9BAEB542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B55-B6DB-462A-9D20-C7E5633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B90-3196-4CDA-8605-E3BAD36A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F62-A0AF-4AD5-BBC8-63BDB9CE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19C-64C2-4212-AD71-DD74F4AF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10D1-9E30-4ADB-B0E9-1EEBD999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ACB9-9546-41CB-AE11-40A7171C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C321-94AA-4D99-B51B-6811B331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7FB-B691-4138-8EBA-BCA21D2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ACB1-AC30-4651-8F6C-81B763D9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D53-E551-4D77-ABAF-1A3E1F4B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062-C630-4DB9-849A-B4A9BA2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3654-45C8-4F3A-A155-AC47AFC9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F631-B6B3-4FAC-B348-270260F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FF47-900D-4E90-93BA-AC882E51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7B1-65F6-41BE-966C-50A5695E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AAD7-2502-47CD-8F50-243777D0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D7ED-F472-4FAC-8703-5C75F5E3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5BBE-36FD-448C-A865-7F535051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7369-C126-4AB6-84E4-567F255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86A3-AD33-43B5-B8D1-CB7FAD8C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FDC5-416D-4B83-8D43-DBB27703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43E-8A48-4540-9C3F-1DE1BF3F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8AD9-3137-4ACE-A128-9A7963FD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C80E-FB98-4F5F-8E41-E319B2C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042F-3879-4482-B598-7AF8CC1C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93D5-8C76-4320-BD5A-6D0099D8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38E0-B6CC-4F20-B7C1-4BFAEBB0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0B77-DE29-410B-B490-8962DCA3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41E2-987B-4B7F-8E08-F237A8EC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64E-2158-436C-B5B8-28DCB7D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B97-22F5-47F2-AB15-1B97D01E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983-D201-499E-847D-F2B84DC7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949-45FE-44B1-A175-1E3E32C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6FA-7883-4143-AFCA-2231C65A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262-0178-4E11-87E4-CCDBDB1A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2E3F-1A74-4D28-9EDF-F09190401EBA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Kuva 6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pic>
        <p:nvPicPr>
          <p:cNvPr id="6" name="Kuva 7" descr="YMK-logo_rgb.jpg"/>
          <p:cNvPicPr/>
          <p:nvPr/>
        </p:nvPicPr>
        <p:blipFill>
          <a:blip r:embed="rId3"/>
          <a:srcRect l="0" t="0" r="9428" b="14084"/>
          <a:stretch/>
        </p:blipFill>
        <p:spPr>
          <a:xfrm>
            <a:off x="7400880" y="5214960"/>
            <a:ext cx="174312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8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1213-D8AA-4D40-B85F-A8629F37AC60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1FC6-9199-4C90-981C-20F9206F06F7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fi.opasnet.org/fi/Etusivu" TargetMode="External"/><Relationship Id="rId2" Type="http://schemas.openxmlformats.org/officeDocument/2006/relationships/hyperlink" Target="http://fi.opasnet.org/fi/Helsingin_ilmastonmuutos_-tiekartta" TargetMode="External"/><Relationship Id="rId3" Type="http://schemas.openxmlformats.org/officeDocument/2006/relationships/hyperlink" Target="http://fi.opasnet.org/fi/Helsingin_ohjelmalliset_energiatehokkuus-_ja_ilmastotoimenpiteet_ja_-tavoitteet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Helsingin ilmastopolitiikan tavoitteiden ja toimenpiteiden tunnistaminen Opasnet-alusta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8fa71f"/>
                </a:solidFill>
                <a:latin typeface="Arial"/>
              </a:rPr>
              <a:t>Sonja-Maria Ignati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8fa71f"/>
                </a:solidFill>
                <a:latin typeface="Arial"/>
              </a:rPr>
              <a:t>23.2.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tä tehti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avoitteiden ja toimenpiteiden lista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trategiata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41 tavoit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hjelmata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17 tavoit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662 toimenpidet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sa-alu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Kaavio 9" descr=""/>
          <p:cNvPicPr/>
          <p:nvPr/>
        </p:nvPicPr>
        <p:blipFill>
          <a:blip r:embed="rId1"/>
          <a:stretch/>
        </p:blipFill>
        <p:spPr>
          <a:xfrm>
            <a:off x="417600" y="1001880"/>
            <a:ext cx="7518240" cy="5224320"/>
          </a:xfrm>
          <a:prstGeom prst="rect">
            <a:avLst/>
          </a:prstGeom>
          <a:ln w="0">
            <a:noFill/>
          </a:ln>
        </p:spPr>
      </p:pic>
      <p:sp>
        <p:nvSpPr>
          <p:cNvPr id="162" name="Tekstiruutu 10"/>
          <p:cNvSpPr/>
          <p:nvPr/>
        </p:nvSpPr>
        <p:spPr>
          <a:xfrm>
            <a:off x="5796000" y="58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=6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hin tavoitteeseen toimenpide liitty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Kaavio 6" descr=""/>
          <p:cNvPicPr/>
          <p:nvPr/>
        </p:nvPicPr>
        <p:blipFill>
          <a:blip r:embed="rId1"/>
          <a:stretch/>
        </p:blipFill>
        <p:spPr>
          <a:xfrm>
            <a:off x="128520" y="725400"/>
            <a:ext cx="87426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hin vaikutukset kohdistuv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älittömät päästö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älilliset päästöt (elinkaarivaikutuks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opeutumi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uom. Toissijaiset vaikutukset (ei tarkastelt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rv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l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sa-ar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ankäytt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Kaavio 3" descr=""/>
          <p:cNvPicPr/>
          <p:nvPr/>
        </p:nvPicPr>
        <p:blipFill>
          <a:blip r:embed="rId1"/>
          <a:stretch/>
        </p:blipFill>
        <p:spPr>
          <a:xfrm>
            <a:off x="488880" y="714240"/>
            <a:ext cx="7878960" cy="6842160"/>
          </a:xfrm>
          <a:prstGeom prst="rect">
            <a:avLst/>
          </a:prstGeom>
          <a:ln w="0">
            <a:noFill/>
          </a:ln>
        </p:spPr>
      </p:pic>
      <p:sp>
        <p:nvSpPr>
          <p:cNvPr id="168" name="Tekstiruutu 4"/>
          <p:cNvSpPr/>
          <p:nvPr/>
        </p:nvSpPr>
        <p:spPr>
          <a:xfrm>
            <a:off x="6119640" y="6278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=6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uka toteuttaa toimenpi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Kaavio 6" descr=""/>
          <p:cNvPicPr/>
          <p:nvPr/>
        </p:nvPicPr>
        <p:blipFill>
          <a:blip r:embed="rId1"/>
          <a:stretch/>
        </p:blipFill>
        <p:spPr>
          <a:xfrm>
            <a:off x="488880" y="425520"/>
            <a:ext cx="8454960" cy="5933880"/>
          </a:xfrm>
          <a:prstGeom prst="rect">
            <a:avLst/>
          </a:prstGeom>
          <a:ln w="0">
            <a:noFill/>
          </a:ln>
        </p:spPr>
      </p:pic>
      <p:sp>
        <p:nvSpPr>
          <p:cNvPr id="171" name="Tekstiruutu 7"/>
          <p:cNvSpPr/>
          <p:nvPr/>
        </p:nvSpPr>
        <p:spPr>
          <a:xfrm>
            <a:off x="108000" y="57261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=728 (samalla toimenpiteellä voi olla useampi toteutta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simer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suntokanta energiatehostuu.” (strategiaohjel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avoitteeseen liittyy 47 toimenpidett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9 yritysten toimenpidet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37 kaupungin toimenpidet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n 1 asukkaiden toimenp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et toiminnak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tä tavoitteita on asetett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vatko kullakin tavoitteella toimenpiteitä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nko toimenpiteitä, joille ei ole tavoitteit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simer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tään yhteiskäyttötiloja, jolloin pienempi määrä asuinneliöitä riittää henkeä kohti (P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giatehokkuuden varmentaminen rakennushankkeen aikana: Päivitetään taloteknisten osajärjestelmien viitearvot (Tilakeskuksen y.ohjel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giansäästötoimenpiteet käytön aikana (olemassaoleva rakennuskanta): Toteutetaan energiakatselmuksissa havaitut tarkoituksenmukaiset toimenpiteet (HE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enpiteet erilaisia, mutta osittain päällekkäisiä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tä on tapahtunut vanhemmille tavoitteille ja toimenpiteil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enpiteissä ei ole kunnolla tunnistettu tärkeää mahdollisuutta ottaa asukas toimenpiteiden keskiöön toimija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-&gt; Kaupunki voisi ottaa asukkaan ja organisaatioiden omia valintoja tukevan, edistävän ja mahdollistavan rool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itäisi järjestelmällisesti pyrkiä yksittäisten toimenpiteiden vaikuttavuuden ja kustannustehokkuuden arviointiin ja tämän tiedon käyttöön priorisoinnis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eurannan kehittämin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tä et voi mitata, sitä et voi johtaa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enpiteitä voi olla hyödyllistä vertailla keskenään. Ilmastopolitiikan hallittavuus paranisi jos olisi vähemmän ja selkeämpiä suunniteltuja toimenpiteitä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Jokainen ”toimiala” voisi käydä läpi omat toimenpiteensä, selkeyttää ja tiivistää niitä ja etsiä mahdollisia synergioita muiden kans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Elintarvikkeisiin liittyviä toimenpiteitä vähä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Nyt tehty toimenpide- ja tavoitetarkastelu laajasti jatkosuunnittelun pohjaksi kaupungil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-&gt; toiminnan vaikuttavuuden arviointi ja kytkös budjettisuunnitteluu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pas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73360"/>
            <a:ext cx="7043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erkkosivusto, jonka tarkoituksena on parantaa yhteiskunnallista päätöksentek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voimet arvioin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Yhteinen ja avoin työ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ystemaattinen informaatiorake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eskustelut ja erimielisyyksien selvittäminen onnistu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ateriaal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fi.opasnet.org/fi/Etusi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.opasnet.org/fi/Helsingin_ilmastonmuutos_-tiekart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.opasnet.org/fi/Helsingin_ohjelmalliset_energiatehokkuus-_ja_ilmastotoimenpiteet_ja_-tavoitteet#Vasta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999800"/>
            <a:ext cx="7043760" cy="4286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Tiedosto:Tiedonkulku avoimessa päätöksentekokäytännössä.png"/>
          <p:cNvPicPr/>
          <p:nvPr/>
        </p:nvPicPr>
        <p:blipFill>
          <a:blip r:embed="rId2"/>
          <a:stretch/>
        </p:blipFill>
        <p:spPr>
          <a:xfrm>
            <a:off x="209520" y="981000"/>
            <a:ext cx="8934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et toiminnak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hin ylätason tavoitteeseen toimenpide liitty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uka toteuttaa toimenpite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hin kohteeseen pyritään vaikuttamaan (tässä sekä hillintä että sopeutuminen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ustannuks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999800"/>
            <a:ext cx="7043760" cy="4286520"/>
          </a:xfrm>
          <a:prstGeom prst="rect">
            <a:avLst/>
          </a:prstGeom>
          <a:ln w="0">
            <a:noFill/>
          </a:ln>
        </p:spPr>
      </p:pic>
      <p:sp>
        <p:nvSpPr>
          <p:cNvPr id="141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75B-2224-4EDA-9B95-ACB856B50271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Ilmastonsuojelun toteutuminen 1 08092014.jpg"/>
          <p:cNvPicPr/>
          <p:nvPr/>
        </p:nvPicPr>
        <p:blipFill>
          <a:blip r:embed="rId2"/>
          <a:stretch/>
        </p:blipFill>
        <p:spPr>
          <a:xfrm>
            <a:off x="0" y="-531720"/>
            <a:ext cx="985212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erveyden ja hyvinvoinnin laitos"/>
          <p:cNvPicPr/>
          <p:nvPr/>
        </p:nvPicPr>
        <p:blipFill>
          <a:blip r:embed="rId1"/>
          <a:stretch/>
        </p:blipFill>
        <p:spPr>
          <a:xfrm>
            <a:off x="0" y="3971880"/>
            <a:ext cx="5753160" cy="1066680"/>
          </a:xfrm>
          <a:prstGeom prst="rect">
            <a:avLst/>
          </a:prstGeom>
          <a:ln w="0">
            <a:noFill/>
          </a:ln>
        </p:spPr>
      </p:pic>
      <p:pic>
        <p:nvPicPr>
          <p:cNvPr id="146" name="Kuva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900600" cy="1549440"/>
          </a:xfrm>
          <a:prstGeom prst="rect">
            <a:avLst/>
          </a:prstGeom>
          <a:ln w="0">
            <a:noFill/>
          </a:ln>
        </p:spPr>
      </p:pic>
      <p:pic>
        <p:nvPicPr>
          <p:cNvPr id="147" name="Kuva 7" descr=""/>
          <p:cNvPicPr/>
          <p:nvPr/>
        </p:nvPicPr>
        <p:blipFill>
          <a:blip r:embed="rId3"/>
          <a:stretch/>
        </p:blipFill>
        <p:spPr>
          <a:xfrm>
            <a:off x="6372360" y="3645000"/>
            <a:ext cx="2085840" cy="150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www.uef.fi"/>
          <p:cNvPicPr/>
          <p:nvPr/>
        </p:nvPicPr>
        <p:blipFill>
          <a:blip r:embed="rId4"/>
          <a:stretch/>
        </p:blipFill>
        <p:spPr>
          <a:xfrm>
            <a:off x="5292720" y="2133720"/>
            <a:ext cx="3691080" cy="744480"/>
          </a:xfrm>
          <a:prstGeom prst="rect">
            <a:avLst/>
          </a:prstGeom>
          <a:ln w="0">
            <a:noFill/>
          </a:ln>
        </p:spPr>
      </p:pic>
      <p:sp>
        <p:nvSpPr>
          <p:cNvPr id="149" name="Tekstiruutu 1"/>
          <p:cNvSpPr/>
          <p:nvPr/>
        </p:nvSpPr>
        <p:spPr>
          <a:xfrm>
            <a:off x="550800" y="56149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Nordem 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ita es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Kaupunkilaiset ja kaupungin työntekijät ovat sitoutuneita ympäristöpolitiikan tavoitteisiin. ”(y.pol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Helsinki on tunnettu ympäristöviisas vihreän talouden kaupunki. Resurssitehokkuus paranee sekä omassa toiminnassa että yhteistyössä yritysten ja tutkimuslaitosten kanssa.” (strateg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ita es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Linja-autoliikenteen kalustoa ja kaupungin muuta ajoneuvokalustoa sekä työkonekantaa uudistetaan vähemmän polttoainetta kuluttavaksi ja vähäpäästöisemmäksi.” (e.pol.linj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Energiatehokkuus on parantunut vähintään 20 % vuoteen 2020 (mittarina asukaskohtainen energiankulutus, vertailuvuosi 2005.” (y.pol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ineisto: Strategiat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elsingin kaupungin strategiaohjelma 2013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elsingin kaupungin ympäristöpolitiik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elsingin kaupungin energiapoliittisia linjauk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ineisto: Ohjelmat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ustainable Energy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Ympäristötavoitetaulu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KS ilmastostrategia 2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rhaat energiatehokkuuskäytännöt (P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elsingin 30 % päästövähennysselv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ltCica-loppurapor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elsingin ilmastonmuutokseen sopeutumisen toimenpiteiden prioris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9:40:52Z</dcterms:created>
  <dc:creator>Ignatius Sonja-Maria</dc:creator>
  <dc:description/>
  <dc:language>en-US</dc:language>
  <cp:lastModifiedBy>Ignatius Sonja-Maria</cp:lastModifiedBy>
  <dcterms:modified xsi:type="dcterms:W3CDTF">2015-02-23T12:59:36Z</dcterms:modified>
  <cp:revision>146</cp:revision>
  <dc:subject/>
  <dc:title>Tiekart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5FC14AC82B2847A9589F5EEDE5A60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